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15BC-23C6-4FAC-B134-087611183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4EF0-81C1-492E-8BD6-5FAC80F37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864F-E985-4549-88E8-F5C4CE7A3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99FA-2110-4F2F-B0F1-39B244224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30D0-8B23-4AFD-8C53-928047A61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47D4-42AA-487E-AC22-AD0D56F7B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9379-C384-4168-81A4-D984C222B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1A81-8314-4F20-BA7F-B7ADB4558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0FE2-932A-478A-B39A-C46232752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E53C-D40F-471F-9040-65BC9959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5EF9-737F-4107-B292-72984AD8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B632-60D0-4F21-8B65-9CD9C4CBB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08006-68BF-46E8-9DF6-F9CFD716B1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Confession (threefold form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Lord, have merc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Lord, have merc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Christ, have merc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Christ, have merc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Lord, have merc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Lord, have merc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0T23:51:59Z</dcterms:created>
  <dc:creator>Anon Anon</dc:creator>
  <dc:description/>
  <dc:language>en-US</dc:language>
  <cp:lastModifiedBy>Anon Anon</cp:lastModifiedBy>
  <dcterms:modified xsi:type="dcterms:W3CDTF">2005-08-09T05:33:41Z</dcterms:modified>
  <cp:revision>9</cp:revision>
  <dc:subject/>
  <dc:title>Confession (threefold form)</dc:title>
</cp:coreProperties>
</file>